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07C-9F06-4333-8648-5142A786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E71-D647-486D-96E7-0766662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DB3-62DE-4433-95AA-A1F7DBDD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B8C-F566-4C92-9952-CC107503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EC6-C718-4D56-9EEB-AFF20ED9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442-A60C-47C3-B688-8560FDED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342-4412-4C30-B099-A51B7F8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6BA-A8F6-4C91-9C8B-86AF9715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18B-2797-4C2D-A30C-101C7A0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E1D-5FEB-4309-B131-C4C5AAD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B8C-8347-4884-897D-DEAAC403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431-2762-4581-A339-FDD4A15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CF2F-04C4-4DCE-B1FB-C4675BD4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Kristen W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gency FB"/>
              </a:rPr>
              <a:t>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060640"/>
            <a:ext cx="85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MS Mincho"/>
              </a:rPr>
              <a:t>Alex,Meagan,Emily,Ciara,Chloe,Tash,Jessica,Ava,Temp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60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 have………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Bradley Hand ITC"/>
              </a:rPr>
              <a:t>Pe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Kahootz Amish"/>
              </a:rPr>
              <a:t>2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Edwardian Script ITC"/>
              </a:rPr>
              <a:t>1 D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S Mincho"/>
              </a:rPr>
              <a:t>1 Rabb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"/>
              </a:rPr>
              <a:t>And HAD 1 Guineap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34:00Z</dcterms:created>
  <dc:creator>Admin</dc:creator>
  <dc:description/>
  <dc:language>en-US</dc:language>
  <cp:lastModifiedBy>Admin</cp:lastModifiedBy>
  <dcterms:modified xsi:type="dcterms:W3CDTF">2009-02-12T22:49:35Z</dcterms:modified>
  <cp:revision>2</cp:revision>
  <dc:subject/>
  <dc:title>Kristen Wright</dc:title>
</cp:coreProperties>
</file>